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260DD-0772-4D9B-B0D1-0E6874C550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D9FE3-CE8E-479C-8E4D-219062807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EB78A-1726-46E2-9BA9-C821EDE326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045F-39ED-47EA-AF2A-F67BFA46C3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BD97-EEA2-4E6E-BE80-BD16FDB0D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97D12-D02E-4240-88DF-83C8E76AD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2A15F-C452-4D97-BEC0-5B90FDEC08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C1489-5D39-457E-BC73-44A50C9A7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C6FBE-075E-4356-BCE0-C266E4D1EC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41761-9B53-419A-AC2C-8B228BA49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CE6BC-125C-47A5-978D-DDC7351ACC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98152-E047-48A6-8BBE-5823F8880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131-3B31-4525-8DEE-8942F0F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CBD-1039-49A9-AABE-DB8C4D4B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C397A-BABD-4913-BF72-6C16532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239FF-BA57-4D5F-ADF4-98B6143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CFA72-E210-4514-9C5E-7F95165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BC253-2296-46FA-8E9C-7020FD0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6A578-B9C3-4B68-9644-1313B74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829B9-3F71-4F63-98D2-4C60ED15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70831-2AF5-4E35-8CB6-F470684D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FE16-CBC1-4AA3-9124-3DF42A02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3F3D9-C84D-459A-B357-13CF899E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C7D-19C1-4382-8BEB-E6318D3B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E00-64DC-4987-8BB3-7E2FCF5B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45AF-9383-4FA4-A2B5-DAED173B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8FC1-43C5-407E-9DCB-FB195C2F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4A85-A666-4474-B69F-EFA6BD6F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E0BD-A8D0-4BE1-AD03-BC7F2923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802-EE87-42D4-9A32-F7DE1894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9C24-FC4E-48E3-8ACB-83695A7A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D6A-BB02-4F7C-8A71-72BE2EA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12C-8211-4B8E-A490-E8D6769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209B-5F80-4876-99A0-BE8E080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51B-0BB9-4404-A2BC-DCC837C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C61E-244E-4084-9AF5-46DA141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427F-32F9-44CE-8CEE-AE2840AF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4E69-A37C-47F9-8271-D4668469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7E71-DCF8-4645-9A4C-722E5BCA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A000-B9C9-476B-8E71-11FCC8D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9B2C-EFB1-49B8-89ED-D4F736A5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2FF1-B2E2-4F0B-8250-D10614C6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C0C4-81FF-491C-9BAF-B8A97BF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81C-25A5-4D27-9F82-6124CB69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1149-1A13-42F4-8015-80EBD0C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31DF-40F0-4D0C-B0FA-45C760C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692D-197A-454E-A964-CA39EC9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8C53-4D87-4B07-8EFA-CCE4A58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3324-041A-4E0D-86B4-0093CD0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7BCE-C050-4563-A454-21FC115F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49AB-B5E7-4919-91B0-41F55B4E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520A-5FD1-48B1-9E8D-613986C1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69F1-9205-4D50-84DE-24BB679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F1CB-4590-49CE-945F-316B0795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6F8-8CA8-4017-8660-F482CE09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7124-7FA3-4356-AA6F-7E63FEC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9904-8AD1-4FAB-8D27-B012ECB9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7C9E-A52E-407F-94DA-2E4943F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46BC-522F-4C1A-B40F-5C90183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A24E-0E46-4BE2-833E-0B97EF2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7340-D9E2-4D66-AC5D-815AB9E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1D70-E682-4169-967F-6DD9786E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44148-2738-4564-88E0-547B0689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923D-FABF-4A3A-B7BA-6F176758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C234-7BA0-4AA3-AA60-BF8D7933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581-AD64-42EF-84D8-147F5A68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352A5-B18F-443E-9A0D-07127871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5D2B-77A0-4D8C-95A7-FC90537A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DC686-DF2F-4729-A7B8-90684FD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6E7FD-1BAF-42FC-ADD2-51241DF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A2B1-101D-495B-8E2A-D2C6758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ADD7-746C-4786-BFD0-DABBF39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1FBDC-FA47-46C4-9622-9A5CC3B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0ECB-2F5B-415F-821E-1628D2B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03AF-860B-42FE-AAB2-8CE12D35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0571-5CA0-46E7-9873-4A94C856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EF9-4046-44DC-8CDF-C9AD207D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8717-EA55-478C-96DA-B44C1C31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1396-C2A6-48B5-A3D4-8B7AF3B3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15CF-2DDB-429B-A4D2-820AB11F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B1E8-4B8A-46ED-B7AC-A02D61E5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994AD-B171-4248-883C-7652137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08E5F-C90B-4553-AE3F-AC899CA3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9FEF4-88BA-410A-AB6C-7B04AFB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39177-FB4A-4028-9088-1D752BF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CDBF-E2FC-4C96-B7F8-B12081D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212B4-155D-47D6-BDF0-E19B2C27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22D-58C2-42AB-9FA9-A8348F2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0C8C-4D01-42D8-A9AC-4622DF5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DFCB1-AAC9-4F36-9418-F6B40547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CF5F-F0EC-4132-88BD-F23BDEF7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AA61-2575-4399-B0ED-4EAE5EEB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CB8F-0781-43E3-933F-1439461F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84CF-8986-46C5-A812-01AFDFE7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BB42-9607-48DE-A7BF-29B106EC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9FC8-DBDE-47B6-81A7-36A6EAE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161D-65B5-4F9E-9610-91B19FC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7C5A-7A12-4D50-9561-E67674E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79A-E5EE-4624-9346-A0233BF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EF8E3-A456-4F3D-93CA-36E1F5E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4ADDC-3046-4C9F-A093-8BC49AE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603BA-AD71-463D-B2AC-0F75EDB1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D4D4-F690-4440-B2A3-9B7B041A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5F19-C564-4F9E-9175-45D0FEE3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4389-6BCC-4CE0-B10C-BFDBA6B8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BED4F-D580-4A40-9BC1-30184CC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109BC-3DAA-4499-A05C-6AEE10C6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CE136-850A-49F2-BC87-2C8628F2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73CEC-761F-4B9B-8FFD-3B890C1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C21-FEFF-43EF-9332-80E26221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DB64-1D44-4FCE-92BA-212E3B7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D872C-CCF3-41AF-86F2-72C44EF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7DD7-2459-4F30-8958-048FE62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94C9E-23EF-4673-8187-4C97F54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41FD4-3C3D-4AD6-9A44-6F8263C1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3B6A-2E0B-4B9A-9121-6F93B39B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38DCD-7371-463A-8775-B486A2F6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C4576-2F0D-49D3-9F03-5E9B316F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7F43E-9199-44C4-A18F-3C258139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53D8C-39B5-4681-86DE-6BFB72CA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46FD9-3961-498C-BAC1-E891B17CB95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B37EE-2116-4A82-BE5F-A368FBDD05D5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CDEB4-2228-4A98-A2C9-11F88F3254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735CE-6457-4569-9F6A-792923F82CF7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BCE18-C665-4074-B3BA-F7ED7FC638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C55CB-A275-45D4-ABD0-4DBF6E6B4A19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F45D5-EE8F-41B7-9ACB-B812FEEC6AA6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328F5-71E9-4971-8BF3-C649D62506A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64F76-EDD7-4AC4-95B8-5331C2CB5147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2E6A7-29E7-467B-B0A5-AF0BDEC5EED0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5B1A4-2579-4B6B-A968-0BE6B0E71DB2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502920" y="1767960"/>
            <a:ext cx="9109080" cy="5888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M cells*100 layers, 16GB/variable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2920" y="176796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8-10-17T18:33:11Z</dcterms:modified>
  <cp:revision>12</cp:revision>
  <dc:subject/>
  <dc:title>Slide 1</dc:title>
</cp:coreProperties>
</file>